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006-8C90-4846-95D4-1D00E5DB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8C9-25C7-4C23-AD28-655DA4B2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361-3FAD-415E-8878-2A430AF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130-C0CB-4318-95E2-B56D1AE6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C1C-3DF9-4399-AC13-7F4DB880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51E-7D6D-49B7-A71C-F605EAE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C71-B1BA-40E2-895E-88D5647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EE8-5871-48C5-BBBC-526779A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ED6-34C2-45BC-88AC-1EAA7D7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459-FE2A-41B8-BB29-F4B61C0A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CDA-9B93-40BF-BBDF-6535305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9DD-4027-43ED-A488-A1B9E77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C68-10D7-425C-8450-32946CD8E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197000"/>
            <a:ext cx="842472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Бог могъщ, Божи Син, Исус. 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Свят и непроменим, Исус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Славя Те, хваля Те, Исус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Бог могъщ, Божи Син, Исус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33320" y="836640"/>
            <a:ext cx="75106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Цар велик, господар, Исус. 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На света светлина Исус. 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Мен води,  с мен бъди, Исус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Цар велик, господар, Исус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4360" y="1268280"/>
            <a:ext cx="758160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Княз на мир, вечен Бог, Исус. 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Моя страх премахни, Исус. 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Избърши сълзите ми, Исус.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Княз на мир, вечен Бог, Исус.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2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3:50Z</dcterms:created>
  <dc:creator>TrifonTrifonow</dc:creator>
  <dc:description/>
  <dc:language>en-US</dc:language>
  <cp:lastModifiedBy>TrifonTrifonow</cp:lastModifiedBy>
  <dcterms:modified xsi:type="dcterms:W3CDTF">2005-12-15T06:44:11Z</dcterms:modified>
  <cp:revision>1</cp:revision>
  <dc:subject/>
  <dc:title>Slide 1</dc:title>
</cp:coreProperties>
</file>